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CBD-03DE-4C5B-A0BF-8B2270F5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142-8FD3-40B8-A854-6B87609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554-5CAF-4162-90EB-B322F3F8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36D-2C4F-4235-BA4F-D7852E99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519-87FB-4145-9542-6F96A251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9052-9A5F-4DDC-98F2-CA86CFA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12F-8667-46E2-98E9-42B2C4D1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06CC-310C-414D-8F9A-94347EE2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009-FBF6-42AA-A361-B39402F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3D3-EF62-4F40-9F29-AB572FC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8925-F190-49D7-BAC9-87A781C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CD3-AB01-4BFF-9628-ACFB6D8F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F64-11E1-4ED9-B3E0-E298C6B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415B-BF34-40A1-848D-9BC972CF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3D35-75F0-4A1B-8A17-E19DAD8B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94D4-8087-4D8F-818A-C540E601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D1D8-09AB-49EE-937B-CFD55BF4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845-E7D2-4FBF-B209-6F767D29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231-5004-4B66-B167-DCE27ACA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5C2-5DD8-49F8-8B39-BF8AF4A9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FE9-3F90-4207-8ECE-62ECA9B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342-E0C3-4C52-B341-AB0BF7D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49F-D230-47A1-8592-B885860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9FC-3DAC-45BE-AB50-CF2C654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282D-E9D2-4991-AE65-317C0798D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073-D863-418B-B814-C8E9BC020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Nosolofutbol@hotmail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URRICULÚM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ITA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6453360"/>
            <a:ext cx="3995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LCOM BABBITT 2º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CHA PERSON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bre :Malcom Babbii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cha de nacimiento: 17-2-19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ugar de nacimiento :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reccion : C/ enebro,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rreo : </a:t>
            </a:r>
            <a:r>
              <a:rPr b="0" lang="es-E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osolofutbol@hot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ACIÓN DEPORTIV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ítulo de Instructor de Fútbol Base o Técnico Deportivo Elemental (Nivel I) obtenido en el curso 1999-2000 impartido por la Escuela de Entrenadores de Fútbol de Madrid en Get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ítulo de Entrenador Regional o Técnico Deportivo de Grado Medio (Nivel II) obtenido en el curso 2000-2001 impartido por la Escuela de Entrenadores de Fútbol de Madrid en Alcorc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HISTORIAL DEPORTIVO(JUGADOR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844640"/>
          <a:ext cx="8445240" cy="4320720"/>
        </p:xfrm>
        <a:graphic>
          <a:graphicData uri="http://schemas.openxmlformats.org/drawingml/2006/table">
            <a:tbl>
              <a:tblPr/>
              <a:tblGrid>
                <a:gridCol w="2814840"/>
                <a:gridCol w="2815200"/>
                <a:gridCol w="281520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12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12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12d4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-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vín (división de hon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-1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cel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antil (división de hon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-19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antil (autonómic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2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-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ete (autonómic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-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venil (autonómic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-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 (preferen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icionado prefer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HISTORIAL DEPORTIVO(ENTRENADOR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1484280"/>
          <a:ext cx="8208720" cy="4942080"/>
        </p:xfrm>
        <a:graphic>
          <a:graphicData uri="http://schemas.openxmlformats.org/drawingml/2006/table">
            <a:tbl>
              <a:tblPr/>
              <a:tblGrid>
                <a:gridCol w="2735280"/>
                <a:gridCol w="2738160"/>
                <a:gridCol w="2735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vaca C.F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Regional Aficionado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º Entrenador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cuela Atlético de Madrid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ANTIL (Preferente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ª Regional Aficionado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ETE “A” (Preferente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ª Regional Aficionado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ETE “A” (Preferente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VENIL "A" (1ª Autonómica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VÍN "A" (1ª Autonómica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vín "C" (1ª Categoría) Ascenso a Categoría Preferente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ACIÓN ACADEM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udios Pri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dios Secud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udios Universi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E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11:01Z</dcterms:created>
  <dc:creator>Unknown</dc:creator>
  <dc:description/>
  <dc:language>en-US</dc:language>
  <cp:lastModifiedBy>Unknown</cp:lastModifiedBy>
  <dcterms:modified xsi:type="dcterms:W3CDTF">2011-10-27T17:49:09Z</dcterms:modified>
  <cp:revision>2</cp:revision>
  <dc:subject/>
  <dc:title>CURRICULÚM VITAE</dc:title>
</cp:coreProperties>
</file>